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675-8DF0-44C1-976F-8D9F8A12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11E-135F-469C-A059-2F4F3563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35B-722B-4935-A6E5-323E09AB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A4F-5AAB-4E9C-84F6-4EEC2BE1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87E-7B70-4EBE-9A8D-313145B1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E9F-362A-401A-AC89-71990E62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682-CF88-49BA-9AEC-BD2B13C6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FFB-B8DE-4DBF-B9C4-23F66127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789-AD31-42E8-B5B5-80F6E2F9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A66-F3B4-45D4-8DBF-6C81B00D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F43-401B-4B87-95A8-BB1EFE61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71A-AE06-492A-8A92-4872C94C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lbertus Medium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F27C-72EF-4E60-899A-B05EADB78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52320" y="1066320"/>
            <a:ext cx="533412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lbertus Medium"/>
              </a:rPr>
              <a:t>Xmas 2005</a:t>
            </a:r>
            <a:br>
              <a:rPr sz="7200"/>
            </a:b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71440" y="198108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 Hard a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86400" y="3733920"/>
            <a:ext cx="3200400" cy="23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lbertus Medium"/>
              </a:rPr>
              <a:t>Nice winter day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0920" y="45720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lbertus Medium"/>
              </a:rPr>
              <a:t>Dog Goes wild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53080" y="2438280"/>
            <a:ext cx="1994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9:02:34Z</dcterms:created>
  <dc:creator>otv-5433</dc:creator>
  <dc:description/>
  <dc:language>en-US</dc:language>
  <cp:lastModifiedBy>otv-5433</cp:lastModifiedBy>
  <dcterms:modified xsi:type="dcterms:W3CDTF">2005-12-14T19:22:29Z</dcterms:modified>
  <cp:revision>2</cp:revision>
  <dc:subject/>
  <dc:title>Xmas 2005 </dc:title>
</cp:coreProperties>
</file>